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465C-F519-483D-A6C0-68B88A6A04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3DC4-D4A3-47E0-BA14-E419D98FE7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5922-25C6-41CE-9EEE-8AC21C981A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021C-AAF5-4D21-872F-4080E11715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9EC3-C137-4E7C-895F-AE90BAE1BD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5563-E5CF-44B2-8F00-F3448AD15A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BF9E-6E0D-4F70-9E94-CB393C52926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63E9-39F3-406F-B2D5-443837CCB2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AFC6-992F-47E4-8372-11D5C7AB0F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2DE4-71BA-4439-A784-B170C61895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15FF-EA46-46B9-B568-0C582714D3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194E-39EA-4C33-BA2B-23611876A5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CBE3-15E2-4E73-9440-2FB4C71D69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DCEE-8D88-46B2-9988-7DB20CE570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9BE3-AD72-4C4A-A634-55D1A3D441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713D-34D8-4DBC-B817-03D29C8896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0DAB-A33A-4857-90F5-7EC1DB1102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D738-73EA-40A7-AED5-D48E753AA1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AAF9-26D6-417A-A2A5-14294A9C49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7AC9-05D2-4108-BA4C-DAFDA1DCCA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BFCC-616C-4A1F-8A2A-4CAECB0D0D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9F07-A873-4DFE-9472-1014873386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DBD-5452-4D62-9F59-FC129343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446-B9B2-41DB-8C7D-582BA895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830-6F88-428E-84BF-A3565D12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ADB-5E53-4B2B-95C7-46B5B850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42D0-5210-4329-94CC-28751B23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05C0-6E0A-447F-BA99-934F2516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14EA-14DA-46DE-9BAF-3FE00969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401D-E0A4-4882-9D69-8DCB8471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EAE6-7178-44B9-A75E-DE1B89C4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DDFF-63B5-4E34-BE52-EC8C62C4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94B2-AEA9-48FD-B60A-22060A8F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207-ACFD-464D-8F7C-387E442C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7F15-51AD-4026-8167-3584F62F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7189-8CF4-475D-9C25-B8C94189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0F7B-D2B9-4AE9-AFF0-D8619938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AE22-F0DF-43B6-BC42-C6A28E7F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D6A0-06E6-4FE4-B048-BE3E14B0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B03-82BB-4F78-AA54-4C929D63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BD5-FAA3-4603-960F-2029AE3F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566-9140-407C-B8FE-6367CEF3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6B6-F6E4-45C3-9B0F-F2DD51A0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D4F-DB4A-4A56-8952-B0C3B5CD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6C3-F517-402F-8554-E5489EC4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27D-127E-44C6-94C9-5AE307DC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na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351F0B0F-A63C-4E27-A698-E2E326454BC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2276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1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4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352680" cy="19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AVC\Desktop\powerpoint\logo_MENDELU_CMYK-2.gif"/>
          <p:cNvPicPr/>
          <p:nvPr/>
        </p:nvPicPr>
        <p:blipFill>
          <a:blip r:embed="rId4"/>
          <a:stretch/>
        </p:blipFill>
        <p:spPr>
          <a:xfrm>
            <a:off x="1285920" y="5072040"/>
            <a:ext cx="1414440" cy="110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C2CB-6289-4852-AC64-B927C9E1F61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84360" y="2723400"/>
            <a:ext cx="82072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Analýza aktuální zapojení ČR do konceptu Smart City a Smart Region v souvislosti s novými tr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Libor G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Stanislav Volč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spravce\Downloads\loga_bila na magente.png"/>
          <p:cNvPicPr/>
          <p:nvPr/>
        </p:nvPicPr>
        <p:blipFill>
          <a:blip r:embed="rId1"/>
          <a:srcRect l="2580" t="9437" r="7451" b="411"/>
          <a:stretch/>
        </p:blipFill>
        <p:spPr>
          <a:xfrm>
            <a:off x="1692360" y="0"/>
            <a:ext cx="3456000" cy="154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148360" y="-27000"/>
            <a:ext cx="4013280" cy="1574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536400" y="404640"/>
            <a:ext cx="72252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samosprávných krajů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7" name="picture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400720" cy="4321440"/>
          </a:xfrm>
          <a:prstGeom prst="rect">
            <a:avLst/>
          </a:prstGeom>
          <a:ln w="0">
            <a:noFill/>
          </a:ln>
        </p:spPr>
      </p:pic>
      <p:sp>
        <p:nvSpPr>
          <p:cNvPr id="15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2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krajských měst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0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21080"/>
          </a:xfrm>
          <a:prstGeom prst="rect">
            <a:avLst/>
          </a:prstGeom>
          <a:ln w="0">
            <a:noFill/>
          </a:ln>
        </p:spPr>
      </p:pic>
      <p:sp>
        <p:nvSpPr>
          <p:cNvPr id="161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3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SC/R ve výběrovém souboru bývalých okresních a ostatních měst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3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19640"/>
          </a:xfrm>
          <a:prstGeom prst="rect">
            <a:avLst/>
          </a:prstGeom>
          <a:ln w="0">
            <a:noFill/>
          </a:ln>
        </p:spPr>
      </p:pic>
      <p:sp>
        <p:nvSpPr>
          <p:cNvPr id="164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4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50920" y="1052640"/>
          <a:ext cx="8569080" cy="5659200"/>
        </p:xfrm>
        <a:graphic>
          <a:graphicData uri="http://schemas.openxmlformats.org/drawingml/2006/table">
            <a:tbl>
              <a:tblPr/>
              <a:tblGrid>
                <a:gridCol w="1800000"/>
                <a:gridCol w="1081080"/>
                <a:gridCol w="1152720"/>
                <a:gridCol w="1224000"/>
                <a:gridCol w="1150920"/>
                <a:gridCol w="104436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avskoslez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soč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omou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st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dubi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řed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zeň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álovéhrad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er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morav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rlovar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(v %)                                               5/6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50920" y="1052640"/>
          <a:ext cx="8569080" cy="5742000"/>
        </p:xfrm>
        <a:graphic>
          <a:graphicData uri="http://schemas.openxmlformats.org/drawingml/2006/table">
            <a:tbl>
              <a:tblPr/>
              <a:tblGrid>
                <a:gridCol w="1728720"/>
                <a:gridCol w="992160"/>
                <a:gridCol w="1174680"/>
                <a:gridCol w="1265400"/>
                <a:gridCol w="1133280"/>
                <a:gridCol w="115884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/mě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ra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Středoče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oravskoslez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řin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lzeň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ladá Boles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dub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radec Králov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Litoměř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……</a:t>
                      </a: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řec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ychnov n. Kně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h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(v %)                                               6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- plošná      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836640"/>
          <a:ext cx="9144000" cy="5059440"/>
        </p:xfrm>
        <a:graphic>
          <a:graphicData uri="http://schemas.openxmlformats.org/drawingml/2006/table">
            <a:tbl>
              <a:tblPr/>
              <a:tblGrid>
                <a:gridCol w="514440"/>
                <a:gridCol w="7832520"/>
                <a:gridCol w="797040"/>
              </a:tblGrid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vytvoření jasného strategického rámce implementace konceptu SC/R na úrovni státu v oblastech národního záj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4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národní strategii pro rozvoj konceptu SC/R v hlavních cílových oblastech.  Strategie by měla zahrnovat cíle a přístupy státu v následujících segmentech (prosíme o zatržení  relevantní oblasti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 průmysl 4.0, sdílená ekonomika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76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75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5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7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tvářet novou strategii, ale odstranit duplicity stávajících strategií definované pro jednotlivé oblasti a zahrnout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730080"/>
          <a:ext cx="9180360" cy="6031080"/>
        </p:xfrm>
        <a:graphic>
          <a:graphicData uri="http://schemas.openxmlformats.org/drawingml/2006/table">
            <a:tbl>
              <a:tblPr/>
              <a:tblGrid>
                <a:gridCol w="473040"/>
                <a:gridCol w="8131320"/>
                <a:gridCol w="576000"/>
              </a:tblGrid>
              <a:tr h="79236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pracování regionálních strategií (v návaznosti na národní strategii, zohledňujících specifika rozvoje území) strategií pro rozvoj konceptu SC/R pro následující segmenty (respondenti zatrhnou relevantní oblasti konceptu SC/R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průmysl 4.0,sdílená ekonomika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2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resortismus ze strany státu, kdy přístup k implementaci konceptu Smart je specifický pro relevantní ministerstva (především MMR, MV, MPSV, MPO, MŽP), vytvořit jednotnou pracovní skupinu, nabízí se využití některé z existujících „Rad vlády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ně vymezit kompetence a odpovědnosti (odstranění resortismu ministerstev) za naplňování národní strategie + nezávislá expertní ko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dotační tituly pro podporu implementace konceptu SC/R v souladu se strategií ČR (jasně definovaná kritéria pro využití moderních technologi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tručnou a jasnou metodiku vztahující se ke způsobům čerpání prostředků pro realizaci národní strategie ve vymezených oblast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- plošná       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– plošná      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836640"/>
          <a:ext cx="9144000" cy="5878440"/>
        </p:xfrm>
        <a:graphic>
          <a:graphicData uri="http://schemas.openxmlformats.org/drawingml/2006/table">
            <a:tbl>
              <a:tblPr/>
              <a:tblGrid>
                <a:gridCol w="468360"/>
                <a:gridCol w="7864560"/>
                <a:gridCol w="811080"/>
              </a:tblGrid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voj jednotné komunikační platformy a sdílení informací  (například MMR ve spolupráci se Svazem měst a obcí a dalšími iniciativami) s možností osobního kontaktu (expertního poradenství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kytovat informace o podmínkách realizace národní strategie SC/R -poskytování poradenského servisu -  možnost osobního kontaktu a konkrétního expertního poradenství pro specifické podmínky obce/region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ále podporovat možnost  seznámit  se s příklady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3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 pro kategorii „menších měst“ především v rámci Č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42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 pro „větší města“ jak v rámci ČR, tak i v zahranič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110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a zajistit aktualizaci zásobníku/databáze ověřených řešení pro jednotlivé oblasti implementace konceptu SC/R a firem, které řešení úspěšně realizoval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pracovat jednoduchou metodickou pomůcku (motivační, iniciační charak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řit se na implementaci konceptu SC/R na státní úrovni, tzn. vytvořit „Smart stát“,  a to především pro oblast státní správy (ID občanů, ITC a efektivní výkon státní správ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osvětu a vzdělá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lovat povědomí o konceptu Smart prostřednictvím osvětové činnosti, PR (propagace) konceptu SC/R ze strany stá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vzdělávání v oblasti SC/R (cílová skupina děti  - ZŠ; SŠ, odborníci na VŠ, celoživotní vzděláván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-25560" y="836640"/>
          <a:ext cx="9144000" cy="4832280"/>
        </p:xfrm>
        <a:graphic>
          <a:graphicData uri="http://schemas.openxmlformats.org/drawingml/2006/table">
            <a:tbl>
              <a:tblPr/>
              <a:tblGrid>
                <a:gridCol w="684360"/>
                <a:gridCol w="7920000"/>
                <a:gridCol w="539640"/>
              </a:tblGrid>
              <a:tr h="5349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ačovat v podpoře strategického plánování implementace konceptu SC/R na úrovni menších obcí (poradenství,lidské zdroje,finanční zdroj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69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zapojení úředníků krajů/měst do jednotlivých fází implementace konceptu SC/R umožněním jejich finančního ohodnocení nad rámec stávajícího odměňování (např. dohody o provedení práce, při zapojení do projektů možnost získat úvazek větší než 1,0…atd.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možnosti stínování úředníků v případě zájmu o podrobné seznámení se s příkladem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8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kvalitní projektovou přípravu a zadávací dokumentaci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at kvalitní projektovou přípravu investičních akc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85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oradenskou platformu pro spolupráci na zadávací dokumentaci pro projek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0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ě podporovat implementaci konceptu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 rámci investičních dotačních titulů (jak na národní, tak i regionální úrovni) nastavit podmínky tak, aby využití těchto zdrojů financování umožňovalo „Smart řešení“ v souladu s národní/regionální strategií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vhodné programy a zjednodušit pravidla čerpání finančních zdrojů z Evropských fon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836640"/>
          <a:ext cx="9144000" cy="549900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fond pro financování pilotních projektů SC/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0447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ání pilotních projektů  (sdílení rizika, vhodný pro větší města)(jednoduchá a dynamická pravidla pro hodnocení projektů bez ohledu na oblast - kritéria hodnocení podle výsledných efektů projektů, připustit neúspěšnost projektu, výběr za pomocí expertní skupiny nebo referenc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ystém inovačních voucherů pro podporu rozvoje těch Smart řešení, která jsou v souladu s národní/regionální strategií rozvoje konceptu SC/R (využitelný pro menší města, volnost ve výběru oblastí implementac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a jasně vymezit jasná pravidla a metodiku pro využívání PPP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legislativní barié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ést revizi (pro potřebu snazší implementace konceptu SC/R) zákona o veřejných zakázk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zapracování "prvků Smart technologií" (které zvyšují cenu a nejsou definovány nebo definovatelné v cenících) do projektů revitalizací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ředpoklady pro preferenci zapojení místních firem do implementace konceptu SC/R či firem, které realizovaly předcházející etapu úspěšných řešení (omezit napadání a nekalou konkuren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žadovat podmínku otevřených řešení umožňujících kompatibilitu navazujících modulárních projektů financovaných z veřejn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32c92"/>
                </a:solidFill>
                <a:latin typeface="Arial"/>
              </a:rPr>
              <a:t>Osnova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Cíl  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Metodický postup řešení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Vyhodnocení procesu implementace konceptu Smart City/Smart 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Doporučení na podporu implementace konceptu Smart City/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836640"/>
          <a:ext cx="9144000" cy="138276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istit, aby legislativa držela krok s technologickým pokrokem (např. definovat požadavky na autonomní dopravu a podobn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formy soudně uznatelných dokumentů pro archivaci (mohou být v elektronické podob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minimální standardy Smart technologi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mbria"/>
              </a:rPr>
              <a:t>Děkujeme za pozornost</a:t>
            </a:r>
            <a:endParaRPr b="1" lang="en-US" sz="32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íl projektu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77336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05050"/>
                </a:solidFill>
                <a:latin typeface="Arial"/>
              </a:rPr>
              <a:t>Cílem projektu bylo zmapovat aktuální stav a míru zapojení jednotlivých krajů, krajských měst a bývalých okresních měst do konceptu Smart City/Smart Region, zmapovat úroveň procesu implementace tohoto konceptu, názorů na potřebu jeho podpory a dle zjištění následně navrhnout vhodná opatření, jak jejich intenzitu zapojení do tohoto konceptu zvýšit. </a:t>
            </a: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4392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1/5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7280" y="1295280"/>
            <a:ext cx="7499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imární šetření bylo koncipováno tak, aby umožňovalo získat informace využitelné pro komplexní mapování a komparaci úrovně implementace konceptu strategického řízení SC/R, participace, motivace, bariér, síťování, role vlády a potřeb podpory zvýšení míry implementace SC/R .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Kritéria a stupnice pro hodnocení míry zapojení měst/krajů do konceptu SC/R vychází z konceptu analýzy Demingova cyklu (PDCA), který je využíván pro evaluaci cyklu neustálého zlepšování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Rámec evaluace implementace konceptu SC/R sestával ze 48 hierarchicky uspořádaných komponent/kritérií, které byly rozděleny na 4 na sebe navazující vyšší celky procesu PDCA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Metodika byla upravena podle standardů ETSI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 úvodním dopise byl stručně objasněn mandát, účel a předmět výzkumu s žádostí o úča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87280" y="1486080"/>
            <a:ext cx="74995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em bylo kontaktováno 13 zástupců Krajských úřadů, zástupci hlavního města Prahy, 13 zástupců krajských měst a 55 zástupců bývalých okresních a dalších mě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ě byli zástupci krajských úřadů a měst opět kontaktováni telefonicky, kdy byl dojednán konkrétní termín schůzky a kontaktní osoby pověřené vedením města. V této iniciační fázi se  5 zástupců měst odmítlo z různých důvodů výzkumu zúčastnit  (9 %). Také se nepodařilo realizovat setkání se zástupci Jihomoravského kraje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 každý kraj/město zahrnuté do výzkumu byla provedena ex ante analytická příprava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2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87280" y="1267920"/>
            <a:ext cx="7499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imární úroveň mapování a hodnocení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Semi-strukturované rozhovor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é expertní hodnocení procesu implementace konceptu SC/R s využitím analýzy PDCA cyklu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ýsledky rozhovoru byly spolu s výsledky analytické přípravné fáze zpracovány prostřednictvím kódování standardizovaných odpovědí do databáze výsledků šetření - „Karta města“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zory a náměty představitelů krajů/měst pro podporu implementace konceptu SC/R shromážděné prostřednictvím řízených rozhovorů byly následně kategorizovány a sumarizován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ový přehled navrhovaných opatření byl elektronicky zaslán k vyjádření všem představitelům krajů/měst, kteří se účastnili výzkumu + verifikace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3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87280" y="141300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Sekundární úroveň - Expertní mapování procesu implementace konceptu Smart City/Region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zhledem k srovnatelné významnosti jednotlivých fází cyklu PDCA, která byla potvrzena výsledky expertního hodnocení metodou AHP byla v první úrovni hierarchické struktury přiřazena stejná váha 0,25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tože druhá úroveň hierarchické struktury využívá rozsáhlého souboru sub-kritérií, jejichž počet je pro jednotlivé fáze PDCA rozdílný, byla pro komplexní MCA hodnocení využita metoda postupného rozvrhu vah na základě alokace bodového hodnocení významnosti kritéria. 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87280" y="191628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á váha byla získána jako výsledek participativního hodnocení v expertní skupině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o dosažení srovnatelnosti významnosti souboru kritérií, byly váhy sub kritérií následně normovány tak, aby jejich součet byl roven celkové hodnotě kritéria na vyšší hierarchické úrovni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é skóre bylo zjišťováno na základě normovaných hodnot výsledné databáze výsledků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5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13880" y="9669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em verifikovaná standardizovaná databáze odpovědí - matice (75 záznamů x 35 údajů), tj. 2625 zpracovaných údajů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4" name="picture" descr=""/>
          <p:cNvPicPr/>
          <p:nvPr/>
        </p:nvPicPr>
        <p:blipFill>
          <a:blip r:embed="rId1"/>
          <a:stretch/>
        </p:blipFill>
        <p:spPr>
          <a:xfrm>
            <a:off x="1979640" y="2519280"/>
            <a:ext cx="5400720" cy="4078440"/>
          </a:xfrm>
          <a:prstGeom prst="rect">
            <a:avLst/>
          </a:prstGeom>
          <a:ln w="0">
            <a:noFill/>
          </a:ln>
        </p:spPr>
      </p:pic>
      <p:sp>
        <p:nvSpPr>
          <p:cNvPr id="155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1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Pavla Soukopová</dc:creator>
  <dc:description/>
  <dc:language>en-US</dc:language>
  <cp:lastModifiedBy>Libor Grega</cp:lastModifiedBy>
  <dcterms:modified xsi:type="dcterms:W3CDTF">2019-03-22T12:27:34Z</dcterms:modified>
  <cp:revision>119</cp:revision>
  <dc:subject/>
  <dc:title>Snímek 1</dc:title>
</cp:coreProperties>
</file>